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844-47E4-4B79-BC2D-DC496BCD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C21-7B13-48D1-BBF8-BD937591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314-859C-4C5E-939D-A7C41156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F95-7F7F-4268-85D1-FE3C741C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18CD-16CA-4984-A1F7-3D0CD731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6CFB-D70F-4823-9238-0037A2B2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D555-500D-49A3-A508-3AA741D6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996F-6272-450B-99B7-86BA118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B56-D839-4FC8-84E0-6C1DA950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999C-A278-4D9C-B815-14FB0F7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6DC-83C2-4681-83FC-986824E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BAC-0945-48F1-BBEA-9AFE1E85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BA87-3D91-40EE-82AE-CC00A62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1366-3945-4B35-8E96-0564FFA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0129-D7B8-4AC4-9A09-8F1AC7C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15EA-0225-4556-BD90-12DB7539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4B8-F5D3-4405-BC8E-8EF75CE2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9FF-583F-40CF-A029-96A78A90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EE2-22E4-4481-AF4D-06965BD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DCA-B944-442E-BAC7-C25CEEFB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D42-1387-4FB7-ADFE-A1FAFEC9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FDC-DF18-48D4-BDE0-0C81AC89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906-ADC5-4EB9-B548-489BD01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E90-CCEF-4EDD-A71A-E0FBD62D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80C7-6FB1-4DE6-ADE8-C38B6C6E538D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675C-6184-4B8A-9A9E-606EE74E623D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Trevor, Gareth, Ju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Virtual A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50 virtual ants incorporating motion detection have been engaging visitors to the Otago Museum Natures Gallery for 5 wee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ityscap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onnecting people with their heritage and community through our S.H.P(stupidly huge panoram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e have delivered the virtual ant project to the Otago Museu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Book Antiqua"/>
              </a:rPr>
              <a:t>(search virtual ants on youtube.com or go to Otago Museum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youtube.JPG"/>
          <p:cNvPicPr/>
          <p:nvPr/>
        </p:nvPicPr>
        <p:blipFill>
          <a:blip r:embed="rId2"/>
          <a:stretch/>
        </p:blipFill>
        <p:spPr>
          <a:xfrm>
            <a:off x="1928880" y="2857680"/>
            <a:ext cx="54291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delivery.JPG"/>
          <p:cNvPicPr/>
          <p:nvPr/>
        </p:nvPicPr>
        <p:blipFill>
          <a:blip r:embed="rId2"/>
          <a:stretch/>
        </p:blipFill>
        <p:spPr>
          <a:xfrm>
            <a:off x="1752480" y="2244600"/>
            <a:ext cx="56390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81532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Book Antiqua"/>
              </a:rPr>
              <a:t>We are experimenting with different input devic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mouse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67120" cy="19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55.jpg"/>
          <p:cNvPicPr/>
          <p:nvPr/>
        </p:nvPicPr>
        <p:blipFill>
          <a:blip r:embed="rId3"/>
          <a:stretch/>
        </p:blipFill>
        <p:spPr>
          <a:xfrm>
            <a:off x="3571920" y="2357280"/>
            <a:ext cx="21430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225360" y="103320"/>
            <a:ext cx="8467920" cy="132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aiting on the data gl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Still experimenting with moving images arou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2:46Z</dcterms:created>
  <dc:creator>Default-User</dc:creator>
  <dc:description/>
  <dc:language>en-US</dc:language>
  <cp:lastModifiedBy>Default-User</cp:lastModifiedBy>
  <dcterms:modified xsi:type="dcterms:W3CDTF">2009-07-20T22:41:51Z</dcterms:modified>
  <cp:revision>3</cp:revision>
  <dc:subject/>
  <dc:title>AntWall</dc:title>
</cp:coreProperties>
</file>